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5th%20Grader%20Short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99AC-98A4-4F02-A86F-2CFABB0CC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6024-6FDA-400A-915D-2205892A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3E54-3A3A-484B-BCE9-55ABCB895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A059-9E76-4554-ACC7-1BDA84266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39C2-3BD8-4C23-B14C-6C7B116B7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4E03-D1FA-4255-BED9-5CF0FC9D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DE84-382F-430E-9BE4-671C39BE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A047-9D66-48B7-A792-E4CAC69A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5B7E-F464-4B10-8EAD-E97CC4AD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0815-F797-41D4-9F57-85344379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B247-7815-461F-A0B5-C61ACFBF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5F9D-7246-4970-BCDA-B8969CD3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7843-F0A3-4DA7-A299-226F9F9B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51DC-9031-414D-A113-D19E3399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1AB1-3C6F-46D2-95B9-753C9F2E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2067-3812-44D7-A513-EB5BD34E0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E047-3FC1-429E-BEFD-0C91783B5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FA6E-3EA9-4339-A67B-A1674FA2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2DDD-7524-495B-B5C1-A4E6F25C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E8C1-ACCC-45E2-8A36-CA134B47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347F-CBDB-4959-AC65-D99EBAE6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9326-959C-402C-B4C3-F9263EEE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9F80-98CC-40AA-8F68-80A3E29F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16F0-EEBF-437B-9D04-715F4F39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66000"/>
          </a:bodyPr>
          <a:p>
            <a:pPr marL="226080" indent="-226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90320" indent="-1886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754200" indent="-15084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055880" indent="-15084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357560" indent="-15084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4A3B-902D-4DE0-BC4B-6D6A0DD957E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37B2-2559-4E13-A449-E0927DCB801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15.xml"/><Relationship Id="rId10" Type="http://schemas.openxmlformats.org/officeDocument/2006/relationships/slide" Target="slide17.xml"/><Relationship Id="rId11" Type="http://schemas.openxmlformats.org/officeDocument/2006/relationships/slide" Target="slide19.xml"/><Relationship Id="rId12" Type="http://schemas.openxmlformats.org/officeDocument/2006/relationships/slide" Target="slide21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slide" Target="slide2.xml"/><Relationship Id="rId21" Type="http://schemas.openxmlformats.org/officeDocument/2006/relationships/slide" Target="slide2.xml"/><Relationship Id="rId22" Type="http://schemas.openxmlformats.org/officeDocument/2006/relationships/slide" Target="slide2.xml"/><Relationship Id="rId23" Type="http://schemas.openxmlformats.org/officeDocument/2006/relationships/slide" Target="slide2.xml"/><Relationship Id="rId2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re You Smar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an a 5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4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5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5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6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6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7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7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8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8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9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500"/>
            </a:gs>
            <a:gs pos="50000">
              <a:srgbClr val="408000"/>
            </a:gs>
            <a:gs pos="100000">
              <a:srgbClr val="020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e You Smarter Than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76320" y="228600"/>
            <a:ext cx="1600200" cy="457200"/>
          </a:xfrm>
          <a:prstGeom prst="rect">
            <a:avLst/>
          </a:prstGeom>
          <a:solidFill>
            <a:srgbClr val="0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1,0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16765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5th Grade Topic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16765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5th Grade Topic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264780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4th Grade Topic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264780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4th Grade Topic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361944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3rd Grade Topic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361944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3rd Grade Topic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459108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2nd Grade Topic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459108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2nd Grade Topic 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55627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1st Grade Topic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55627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1st Grade Topic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5240" y="80028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13874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3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197316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17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25606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6" action="ppaction://hlinksldjump"/>
              </a:rPr>
              <a:t>1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31478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73392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8" action="ppaction://hlinksldjump"/>
              </a:rPr>
              <a:t>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43210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9" action="ppaction://hlinksldjump"/>
              </a:rPr>
              <a:t>1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490680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0" action="ppaction://hlinksldjump"/>
              </a:rPr>
              <a:t>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549432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1" action="ppaction://hlinksldjump"/>
              </a:rPr>
              <a:t>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22" action="ppaction://hlinksldjump"/>
          </p:cNvPr>
          <p:cNvSpPr/>
          <p:nvPr/>
        </p:nvSpPr>
        <p:spPr>
          <a:xfrm>
            <a:off x="152280" y="608184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3" action="ppaction://hlinksldjump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9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1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1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illion Dollar Questio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Grade Level Topic 1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s for Playing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1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2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3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3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4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20:28:24Z</dcterms:created>
  <dc:creator>Gary Bodenschatz</dc:creator>
  <dc:description/>
  <dc:language>en-US</dc:language>
  <cp:lastModifiedBy>Connie Campbell</cp:lastModifiedBy>
  <dcterms:modified xsi:type="dcterms:W3CDTF">2008-02-14T14:42:38Z</dcterms:modified>
  <cp:revision>21</cp:revision>
  <dc:subject/>
  <dc:title>Are You Smarter  Than a 5th Grader?</dc:title>
</cp:coreProperties>
</file>